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93764-E160-4A92-BC86-8AB35FFC9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6AA43-938E-4C35-B4B0-8D2B91EA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B9A22-3D87-4E9C-A1EE-972FDA9C6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2838A-D076-4E4A-8494-1F2DCB30E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3BE5-9A52-44FE-A892-3AAD7B8C8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152A-11D6-4054-AE99-0F644A86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80F2-8F15-40DF-84D8-74FD07B3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AA38-149C-4B4E-8342-D5FEE79A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6EB9-5152-4F46-BD1F-05C3D7D2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4B01-1E2F-4A49-8867-B122FC08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6470-0939-48A4-9F06-0F8B9195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CB8EA-AA2F-4555-9E84-174282AB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A2CF-ABBC-449D-A781-ACBC3E90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59BD-29CB-4C0B-913A-161C6F73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F18E-D973-4E48-9B04-62B5CACB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75A4-35E0-4B81-8FC6-4779821B1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11E7-423E-4A8D-9B2C-689172450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5C111-A4C2-4DF2-B890-185619B1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CDDB7-3DCC-4727-80A7-00A7AC14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AB509-55B5-4B49-AA23-9A87963C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5A6CB-5F37-4328-8FE4-20CF9F1B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09DD6-D1E8-49AA-9C32-D29145EF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E3274-0BC1-46C3-9FE8-FDB350D2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B8747-5D28-4CD7-9B2C-E9D8B1DD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213E-ED5A-433B-AEE8-265DF91A1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0541-783A-47D5-92F6-4B45CCE2A4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ommonly Confused Words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 Choose the correctly worded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he school will except all students, accep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ose who clearly don’t want to attend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The school will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accept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all students,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except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those who clearly don’t want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to attend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. Choose the correctly worded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he side effects of that medication ma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ffect your ability to driv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e side affects of that medication ma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ffect your ability to driv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. Choose the correctly worded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The side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effect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of that medication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may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affect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your ability to driv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e side affects of that medication ma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ffect your ability to driv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6. Choose the correctly worded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re the Griffins coming to our party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Are the Griffins coming to are party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6. Choose the correctly worded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Are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the Griffins coming to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our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party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Are the Griffins coming to are party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7. Choose the correctly worded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 am going to buy every book ever written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y Toni Morrison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 am going to by every book ever written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uy Toni Morriso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7. Choose the correctly worded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I am going to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buy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every book ever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written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by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Toni Morrison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 am going to by every book ever written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uy Toni Morriso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8. Choose the correctly worded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When the thief became conscious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ext morning, his conscience began to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ag him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When the thief became conscious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ext morning, his conscious began to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ag him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8. Choose the correctly worded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When the thief became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consciou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the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next morning, his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conscience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began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to nag him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When the thief became conscious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ext morning, his conscious began to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ag him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Choose the correctly worded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 need to fine my glasses so that I can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ead the find print on this contrac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 need to find my glasses so that I can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ead the fine print on this contrac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7238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ertain words in English (lik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dvic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dvis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are confusing because they sound alike and may have similar meanings. The more you practice using these words, the more you will understand the differences between the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See your textbook for more details and practices on commonly confused words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Choose the correctly worded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 need to fine my glasses so that I can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ead the find print on this contrac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I need to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find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my glasses so that I can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read the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fine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print on this contrac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 assume that your going to bring you’r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ooks to class tomorrow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 assume that your going to bring you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ooks to class tomorrow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 assume that your going to bring you’r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ooks to class tomorrow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 assume that your going to bring you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ooks to class tomorrow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none of the above; the correct wording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is </a:t>
            </a: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I assume that </a:t>
            </a: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you’re</a:t>
            </a: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 going to </a:t>
            </a: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bring </a:t>
            </a: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your</a:t>
            </a: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 books to class tomorrow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1. Choose the correctly worded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he person whose fingerprints are on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gun is the person who’s committed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rim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e person who’s fingerprints are on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gun is the person whose committed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rim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1. Choose the correctly worded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The person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whose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fingerprints are on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the gun is the person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who’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ommitted the crim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e person who’s fingerprints are on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gun is the person whose committed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rim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2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 use to drive a small car, but now I use a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ig van because I have five children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 used to drive a small car, but now I use a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ig van because I have five children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2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 use to drive a small car, but now I use a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ig van because I have five children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I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used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to drive a small car, but now I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use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a big van because I have five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hildren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3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 knew that you would like the new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eacher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 new that you would like the new teacher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3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I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knew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that you would like the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new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teacher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 new that you would like the new teacher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4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You know that your team has no chanc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f winning this game, right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You no that your team has know chanc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f winning this game, right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oose the correctly worded sentenc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 advise you to take my advic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 advice you to take my advis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4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You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know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that your team has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no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hance of winning this game, right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You no that your team has know chanc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f winning this game, right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5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f you lose weight, you’ll probably notic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at your pants are getting loos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f you loose weight, you’ll probably notic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at your pants are getting los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5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If you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lose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weight, you’ll probably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notice that your pants are getting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loose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f you loose weight, you’ll probably notic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at your pants are getting los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6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 don’t mine what you do with your own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oney; just leave mine alon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 don’t mind what you do with your own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oney; just leave mine alon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6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 don’t mine what you do with your own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oney; just leave mine alon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I don’t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mind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what you do with your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own money; just leave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mine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alon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7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You could of told me that you have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lu.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You could have told me that you have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lu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7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You could of told me that you have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lu.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You could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have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told me that you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have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the flu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8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n the passed, many immigrants to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merica passed through Ellis Island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n the past, many immigrants to America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ast through Ellis Island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8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n the passed, many immigrants to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merica passed through Ellis Island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n the past, many immigrants to America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ast through Ellis Island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none of the above; the correct wording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is </a:t>
            </a: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In the </a:t>
            </a: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past</a:t>
            </a: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, many immigrants to </a:t>
            </a: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America </a:t>
            </a: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passed</a:t>
            </a: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 through Ellis </a:t>
            </a: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Island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9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 quiet piece of music always makes m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eel at peac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A quiet peace of music always makes m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eel at piec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oose the correctly worded sentenc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I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advise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you to take my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advice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 advice you to take my advis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9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A quiet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piece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of music always makes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me feel at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peace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A quiet peace of music always makes m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eel at piec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he principal problem with politics is tha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oliticians have few real principle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e principle problem with politics is tha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oliticians have few real principal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The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principal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problem with politics is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that politicians have few real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principle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e principle problem with politics is tha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oliticians have few real principal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1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fter the band quit playing, the part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ecame very quite and quite boring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After the band quit playing, the part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ecame very quiet and quite boring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1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fter the band quit playing, the part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ecame very quite and quite boring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After the band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quit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playing, the party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ecame very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quiet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and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quite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boring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2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o get the right job, you must right a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good résumé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o get the right job, you must write a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good résumé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2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o get the right job, you must right a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good résumé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To get the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right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job, you must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write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a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good résumé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3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fter a long day, I just want to set m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ork aside and sit on a comfortabl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ouch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After a long day, I just want to set m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ork aside and set on a comfortabl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ouch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3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After a long day, I just want to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set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my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work aside and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sit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on a comfortable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ouch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After a long day, I just want to set m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ork aside and set on a comfortabl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ouch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4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 suppose that the door was supposed to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e left open for us, but we’re locked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u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 suppose that the door was suppose to b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left open for us, but we’re locked ou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oose the correctly worded sentenc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ts clear that the company improved it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enefit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ts clear that the company improved it’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enefit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4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I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suppose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that the door was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supposed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to be left open for us, but we’re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locked ou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 suppose that the door was suppose to b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left open for us, but we’re locked ou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5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Chris ate more then any of us; then, 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left the restaurant without a word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Chris ate more than any of us; then, 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left the restaurant without a word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5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Chris ate more then any of us; then, 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left the restaurant without a word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Chris ate more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than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any of us;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then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, he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left the restaurant without a word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6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here going to park their car over there,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ext to the garag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ere going to park there car over their,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ext to the garag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6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here going to park their car over there,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ext to the garag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ere going to park there car over their,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ext to the garag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none of the above; the correct wording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is </a:t>
            </a: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They’re</a:t>
            </a: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 going to park </a:t>
            </a: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their</a:t>
            </a: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 car </a:t>
            </a: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over </a:t>
            </a: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there</a:t>
            </a: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, next to the garage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7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hough the engine was cold, he threw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ar into gear and drove through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now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ough the engine was cold, he threw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ar into gear and drove threw the snow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7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Though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the engine was cold, he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threw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the car into gear and drove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through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the snow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ough the engine was cold, he threw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ar into gear and drove threw the snow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8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wo big pieces of cake were to much f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e too finish after I ate all that pi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wo big pieces of cake were too much f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e to finish after I ate all that pi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8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wo big pieces of cake were to much f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e too finish after I ate all that pi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Two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big pieces of cake were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too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much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for me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to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finish after I ate all that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pi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oose the correctly worded sentenc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ts clear that the company improved it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enefit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ts clear that the company improved it’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enefit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none of the above; the correct wording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is </a:t>
            </a: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It’s</a:t>
            </a: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 clear that the company </a:t>
            </a: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improved </a:t>
            </a: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its</a:t>
            </a: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 benefit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Choose the correctly worded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 have to write a outline an a essay for m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nglish clas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 have to write an outline and an essay f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y English clas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Choose the correctly worded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 have to write a outline an a essay for m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nglish clas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I have to write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an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outline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and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an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essay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for my English clas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 Choose the correctly worded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he school will except all students, accep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ose who clearly don’t want to attend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e school will accept all students, excep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ose who clearly don’t want to attend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6:19:37Z</dcterms:created>
  <dc:creator>BSM</dc:creator>
  <dc:description/>
  <dc:language>en-US</dc:language>
  <cp:lastModifiedBy>BSM</cp:lastModifiedBy>
  <dcterms:modified xsi:type="dcterms:W3CDTF">2008-02-14T19:40:43Z</dcterms:modified>
  <cp:revision>306</cp:revision>
  <dc:subject/>
  <dc:title>Sentence Fragments</dc:title>
</cp:coreProperties>
</file>